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714-042D-4F59-BE1C-DA054C51AA8C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F6A3-E932-424C-93FE-FE20A0940BF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759-B60C-45AA-82C8-4D6F478E704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L XML snippet containing contextual metadata in computer friendly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FF14-FFF8-4637-987F-818C5BC399F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friendly, but the human-readable info is still in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58F1-4CB0-4D8B-A249-FFC308F8EC3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F40C-8671-4698-AF54-0FBF36D972F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computer-friendly metadata standards in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6E2E-B7CB-4D96-8494-564B5173DF2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Introduction to Metadata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Metadata Standard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ynn Yarme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7"/>
          <p:cNvSpPr/>
          <p:nvPr/>
        </p:nvSpPr>
        <p:spPr>
          <a:xfrm>
            <a:off x="663480" y="2286000"/>
            <a:ext cx="11671560" cy="64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Name&gt;Sea Surface Temperature&lt;/attributeNam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Definition&gt;temperature measurement&lt;/attributeDefini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unit&gt;celsius&lt;/unit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numericDomain&gt;&lt;numberType&gt;real&lt;/numberType&gt;&lt;/numericDomai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thods&gt;&lt;description&gt; subject { seaSurface } &lt;/descrip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description&gt; calculationType { calculated }; calculationTypeDetail { average }; calculationInterval { day }; &lt;/description&gt;&lt;/methods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TextBox 9"/>
          <p:cNvSpPr/>
          <p:nvPr/>
        </p:nvSpPr>
        <p:spPr>
          <a:xfrm>
            <a:off x="260280" y="8709120"/>
            <a:ext cx="125668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Scripps Institution Of Oceanography Pier Water Temperature - Station Dataset (CCELTER). [Online]. Scripps Institution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of Oceanography Shore Station Program [Producer]. Oceaninformatics Datazoo [Distributor].  (February 28, 2011). 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oceaninformatics.ucsd.edu/datazoo/data/ccelter/datasets?action=summary&amp;id=15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- XM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ounded Rectangle 4"/>
          <p:cNvSpPr/>
          <p:nvPr/>
        </p:nvSpPr>
        <p:spPr>
          <a:xfrm>
            <a:off x="2768760" y="2286000"/>
            <a:ext cx="312408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Rounded Rectangle 5"/>
          <p:cNvSpPr/>
          <p:nvPr/>
        </p:nvSpPr>
        <p:spPr>
          <a:xfrm>
            <a:off x="2006640" y="327672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Rounded Rectangle 8"/>
          <p:cNvSpPr/>
          <p:nvPr/>
        </p:nvSpPr>
        <p:spPr>
          <a:xfrm>
            <a:off x="4216320" y="43434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Rounded Rectangle 10"/>
          <p:cNvSpPr/>
          <p:nvPr/>
        </p:nvSpPr>
        <p:spPr>
          <a:xfrm>
            <a:off x="4216320" y="533412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Rounded Rectangle 11"/>
          <p:cNvSpPr/>
          <p:nvPr/>
        </p:nvSpPr>
        <p:spPr>
          <a:xfrm>
            <a:off x="4216320" y="632448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Rounded Rectangle 12"/>
          <p:cNvSpPr/>
          <p:nvPr/>
        </p:nvSpPr>
        <p:spPr>
          <a:xfrm>
            <a:off x="4978440" y="73152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Rounded Rectangle 13"/>
          <p:cNvSpPr/>
          <p:nvPr/>
        </p:nvSpPr>
        <p:spPr>
          <a:xfrm>
            <a:off x="5435640" y="769608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Rounded Rectangle 14"/>
          <p:cNvSpPr/>
          <p:nvPr/>
        </p:nvSpPr>
        <p:spPr>
          <a:xfrm>
            <a:off x="9702720" y="76201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Rounded Rectangle 15"/>
          <p:cNvSpPr/>
          <p:nvPr/>
        </p:nvSpPr>
        <p:spPr>
          <a:xfrm>
            <a:off x="3073320" y="80010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TextBox 7"/>
          <p:cNvSpPr/>
          <p:nvPr/>
        </p:nvSpPr>
        <p:spPr>
          <a:xfrm>
            <a:off x="663480" y="2286000"/>
            <a:ext cx="11671560" cy="64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Name&gt;Sea Surface Temperature&lt;/attributeNam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Definition&gt;temperature measurement&lt;/attributeDefini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unit&gt;celsius&lt;/unit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numericDomain&gt;&lt;numberType&gt;real&lt;/numberType&gt;&lt;/numericDomai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thods&gt;&lt;description&gt; subject { seaSurface } &lt;/descrip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description&gt; calculationType { calculated }; calculationTypeDetail { average }; calculationInterval { day }; &lt;/description&gt;&lt;/methods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TextBox 9"/>
          <p:cNvSpPr/>
          <p:nvPr/>
        </p:nvSpPr>
        <p:spPr>
          <a:xfrm>
            <a:off x="260280" y="8709120"/>
            <a:ext cx="125668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Scripps Institution Of Oceanography Pier Water Temperature - Station Dataset (CCELTER). [Online]. Scripps Institution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of Oceanography Shore Station Program [Producer]. Oceaninformatics Datazoo [Distributor].  (February 28, 2011). 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oceaninformatics.ucsd.edu/datazoo/data/ccelter/datasets?action=summary&amp;id=15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- XM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- Typ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TextBox 16"/>
          <p:cNvSpPr/>
          <p:nvPr/>
        </p:nvSpPr>
        <p:spPr>
          <a:xfrm>
            <a:off x="-1465560" y="2590920"/>
            <a:ext cx="1581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The previous example was showing contextual metadata,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there are other types of metadata and metadata standards: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itation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Provenanc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rchiving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echnica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8"/>
          <p:cNvSpPr/>
          <p:nvPr/>
        </p:nvSpPr>
        <p:spPr>
          <a:xfrm>
            <a:off x="598320" y="2317680"/>
            <a:ext cx="11693520" cy="81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s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tandards exist!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f everyone used them, you could do very cool scie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ns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mpliance is often a lot of wor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ere are lo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ever, there are baby steps to get started!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6"/>
          <p:cNvSpPr/>
          <p:nvPr/>
        </p:nvSpPr>
        <p:spPr>
          <a:xfrm>
            <a:off x="330120" y="2235240"/>
            <a:ext cx="12420720" cy="98794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ips for the short-term: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Get your own house in order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use common date formats, codes, smart file name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Helvetica Neue"/>
              </a:rPr>
              <a:t>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Helvetica Neue"/>
              </a:rPr>
              <a:t>WRITE EVERYTHING DOWN!</a:t>
            </a:r>
            <a:r>
              <a:rPr b="1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keep good readme files) 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Put in the time early on to implement a standar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most have minimum compliance levels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options to get more detaile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Stay flexibl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ips for the long-term: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Get help!   (Librarians, standards groups, data centers,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omain communities, tools)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Watch for Best Practices and standards in your fiel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xcel Plug-in tool - in develop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Incomplete) Lists of Standards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Global Change Master Directory Standards Lis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IESIN Standards 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bio, climate, ecology, oceanography – marinemetadata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medical/bio – BioOntology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d many others…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cumentation and Metadata s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– defining term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ample cont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note about X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to get star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Jargon -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TextBox 4"/>
          <p:cNvSpPr/>
          <p:nvPr/>
        </p:nvSpPr>
        <p:spPr>
          <a:xfrm>
            <a:off x="3292200" y="2362320"/>
            <a:ext cx="596016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Data about Data”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TextBox 5"/>
          <p:cNvSpPr/>
          <p:nvPr/>
        </p:nvSpPr>
        <p:spPr>
          <a:xfrm>
            <a:off x="4600440" y="8534520"/>
            <a:ext cx="90237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f7f7f"/>
                </a:solidFill>
                <a:latin typeface="Helvetica Neue Light"/>
              </a:rPr>
              <a:t>But what does that MEAN?!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8"/>
          <p:cNvSpPr/>
          <p:nvPr/>
        </p:nvSpPr>
        <p:spPr>
          <a:xfrm>
            <a:off x="558720" y="2743200"/>
            <a:ext cx="11692080" cy="80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would someone* unfamiliar with your data (and possibly your research) need in order to find, evaluate, understand, and reuse them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*How about someone: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who works in your lab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from a different lab in your field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from a completely different domain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who works for a newspaper?  For Congress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– The Bottom Lin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8"/>
          <p:cNvSpPr/>
          <p:nvPr/>
        </p:nvSpPr>
        <p:spPr>
          <a:xfrm>
            <a:off x="3068640" y="3365640"/>
            <a:ext cx="60706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Temperature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31.5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- Exam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6"/>
          <p:cNvSpPr/>
          <p:nvPr/>
        </p:nvSpPr>
        <p:spPr>
          <a:xfrm rot="20885400">
            <a:off x="-19800" y="3352320"/>
            <a:ext cx="37659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e6e6e"/>
                </a:solidFill>
                <a:latin typeface="Helvetica Neue Light"/>
              </a:rPr>
              <a:t>Of what?  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TextBox 7"/>
          <p:cNvSpPr/>
          <p:nvPr/>
        </p:nvSpPr>
        <p:spPr>
          <a:xfrm rot="540600">
            <a:off x="5476320" y="5978520"/>
            <a:ext cx="4146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22268"/>
                </a:solidFill>
                <a:latin typeface="Helvetica Neue Light"/>
              </a:rPr>
              <a:t>Collected when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9"/>
          <p:cNvSpPr/>
          <p:nvPr/>
        </p:nvSpPr>
        <p:spPr>
          <a:xfrm rot="206400">
            <a:off x="7388280" y="8172360"/>
            <a:ext cx="388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Helvetica Neue Light"/>
              </a:rPr>
              <a:t>Collected how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TextBox 11"/>
          <p:cNvSpPr/>
          <p:nvPr/>
        </p:nvSpPr>
        <p:spPr>
          <a:xfrm rot="607200">
            <a:off x="9360360" y="3227040"/>
            <a:ext cx="28515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According 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to whom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TextBox 12"/>
          <p:cNvSpPr/>
          <p:nvPr/>
        </p:nvSpPr>
        <p:spPr>
          <a:xfrm rot="244200">
            <a:off x="47160" y="8474040"/>
            <a:ext cx="596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Helvetica Neue Light"/>
              </a:rPr>
              <a:t>Averaged?  Calculated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TextBox 13"/>
          <p:cNvSpPr/>
          <p:nvPr/>
        </p:nvSpPr>
        <p:spPr>
          <a:xfrm rot="21098400">
            <a:off x="9374760" y="6300720"/>
            <a:ext cx="388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fbfbf"/>
                </a:solidFill>
                <a:latin typeface="Helvetica Neue Light"/>
              </a:rPr>
              <a:t>In what units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TextBox 14"/>
          <p:cNvSpPr/>
          <p:nvPr/>
        </p:nvSpPr>
        <p:spPr>
          <a:xfrm rot="20979600">
            <a:off x="360000" y="7162920"/>
            <a:ext cx="259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73"/>
                </a:solidFill>
                <a:latin typeface="Helvetica Neue Light"/>
              </a:rPr>
              <a:t>Location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TextBox 15"/>
          <p:cNvSpPr/>
          <p:nvPr/>
        </p:nvSpPr>
        <p:spPr>
          <a:xfrm>
            <a:off x="3716280" y="4876920"/>
            <a:ext cx="4664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For what purpose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TextBox 16"/>
          <p:cNvSpPr/>
          <p:nvPr/>
        </p:nvSpPr>
        <p:spPr>
          <a:xfrm>
            <a:off x="2088000" y="7238880"/>
            <a:ext cx="9648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Helvetica Neue Light"/>
              </a:rPr>
              <a:t>When was the sensor last cleaned/calibrated?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19"/>
          <p:cNvSpPr/>
          <p:nvPr/>
        </p:nvSpPr>
        <p:spPr>
          <a:xfrm rot="464400">
            <a:off x="-746640" y="5520960"/>
            <a:ext cx="660060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Neue Light"/>
              </a:rPr>
              <a:t>Has anyone checke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Neue Light"/>
              </a:rPr>
              <a:t>the quality of this value?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3301920" y="2052720"/>
            <a:ext cx="60706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Temperature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31.5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TextBox 21"/>
          <p:cNvSpPr/>
          <p:nvPr/>
        </p:nvSpPr>
        <p:spPr>
          <a:xfrm>
            <a:off x="8322480" y="5029200"/>
            <a:ext cx="4314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ecision/accuracy?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TextBox 17"/>
          <p:cNvSpPr/>
          <p:nvPr/>
        </p:nvSpPr>
        <p:spPr>
          <a:xfrm>
            <a:off x="4501800" y="9228240"/>
            <a:ext cx="98769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AKA – T, Temp, degC, C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Helvetica Neue Light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F… lots of different names!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- Exam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Box 10"/>
          <p:cNvSpPr/>
          <p:nvPr/>
        </p:nvSpPr>
        <p:spPr>
          <a:xfrm>
            <a:off x="863640" y="3106800"/>
            <a:ext cx="1089648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in general does it’s job best when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consist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digita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for peo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such that computers are happ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2337120" y="8429760"/>
            <a:ext cx="117820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22268"/>
                </a:solidFill>
                <a:latin typeface="Helvetica Neue Light"/>
              </a:rPr>
              <a:t>Enter Metadata Standards</a:t>
            </a:r>
            <a:endParaRPr b="0" lang="en-US" sz="63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Box 10"/>
          <p:cNvSpPr/>
          <p:nvPr/>
        </p:nvSpPr>
        <p:spPr>
          <a:xfrm>
            <a:off x="757080" y="2133720"/>
            <a:ext cx="11747520" cy="9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Local Standards </a:t>
            </a:r>
            <a:r>
              <a:rPr b="0" lang="en-US" sz="4800" spc="-1" strike="noStrike">
                <a:solidFill>
                  <a:srgbClr val="7f7f7f"/>
                </a:solidFill>
                <a:latin typeface="Helvetica Neue Light"/>
              </a:rPr>
              <a:t> (people -&gt; people)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File Naming Convention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Standard Operating Procedure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Beyond </a:t>
            </a:r>
            <a:r>
              <a:rPr b="0" lang="en-US" sz="4800" spc="-1" strike="noStrike">
                <a:solidFill>
                  <a:srgbClr val="7f7f7f"/>
                </a:solidFill>
                <a:latin typeface="Helvetica Neue Light"/>
              </a:rPr>
              <a:t>(people -&gt; computers -&gt; people)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57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ISO 19115  </a:t>
            </a:r>
            <a:r>
              <a:rPr b="0" lang="en-US" sz="1700" spc="-1" strike="noStrike">
                <a:solidFill>
                  <a:srgbClr val="000000"/>
                </a:solidFill>
                <a:latin typeface="Helvetica Neue Light"/>
              </a:rPr>
              <a:t>(http://www.fgdc.gov/metadata/geospatial-metadata-standards#nap)</a:t>
            </a: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GCMD DIF </a:t>
            </a:r>
            <a:r>
              <a:rPr b="0" lang="en-US" sz="4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Helvetica Neue Light"/>
              </a:rPr>
              <a:t>(http://gcmd.nasa.gov/User/difguide/difman.html)</a:t>
            </a: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DataCite   </a:t>
            </a:r>
            <a:r>
              <a:rPr b="0" lang="en-US" sz="1700" spc="-1" strike="noStrike">
                <a:solidFill>
                  <a:srgbClr val="000000"/>
                </a:solidFill>
                <a:latin typeface="Helvetica Neue Light"/>
              </a:rPr>
              <a:t>(http://schema.datacite.org/)</a:t>
            </a: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6e6e"/>
                </a:solidFill>
                <a:latin typeface="Helvetica Neue Light"/>
              </a:rPr>
              <a:t>and many (many) more…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7" descr=""/>
          <p:cNvPicPr/>
          <p:nvPr/>
        </p:nvPicPr>
        <p:blipFill>
          <a:blip r:embed="rId1"/>
          <a:stretch/>
        </p:blipFill>
        <p:spPr>
          <a:xfrm>
            <a:off x="28440" y="2379600"/>
            <a:ext cx="12997080" cy="6307200"/>
          </a:xfrm>
          <a:prstGeom prst="rect">
            <a:avLst/>
          </a:prstGeom>
          <a:ln w="0">
            <a:noFill/>
          </a:ln>
        </p:spPr>
      </p:pic>
      <p:sp>
        <p:nvSpPr>
          <p:cNvPr id="773" name="TextBox 6"/>
          <p:cNvSpPr/>
          <p:nvPr/>
        </p:nvSpPr>
        <p:spPr>
          <a:xfrm>
            <a:off x="0" y="8709120"/>
            <a:ext cx="130046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Scripps Institution Of Oceanography Pier Water Temperature - Station Dataset (CCELTER). [Online]. Scripps Institution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of Oceanography Shore Station Program [Producer]. Oceaninformatics Datazoo [Distributor].  (February 28, 2011). 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oceaninformatics.ucsd.edu/datazoo/data/ccelter/datasets?action=summary&amp;id=15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in 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1:46:59Z</dcterms:created>
  <dc:creator/>
  <dc:description/>
  <cp:keywords/>
  <dc:language>en-US</dc:language>
  <cp:lastModifiedBy>Lynn Yarmey</cp:lastModifiedBy>
  <dcterms:modified xsi:type="dcterms:W3CDTF">2012-02-26T22:49:14Z</dcterms:modified>
  <cp:revision>37</cp:revision>
  <dc:subject/>
  <dc:title>ESIP Federation 101</dc:title>
</cp:coreProperties>
</file>